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png" ContentType="image/png"/>
  <Override PartName="/ppt/media/image11.wmf" ContentType="image/x-wmf"/>
  <Override PartName="/ppt/media/image12.jpeg" ContentType="image/jpeg"/>
  <Override PartName="/ppt/media/image8.wmf" ContentType="image/x-wmf"/>
  <Override PartName="/ppt/media/image9.wmf" ContentType="image/x-wmf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907588" cy="6858000"/>
  <p:notesSz cx="9925050" cy="6670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25200" cy="667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30200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624640" y="0"/>
            <a:ext cx="430200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158640" y="500040"/>
            <a:ext cx="3613320" cy="250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1325520" y="3170160"/>
            <a:ext cx="7275600" cy="29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335640"/>
            <a:ext cx="430200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624640" y="6335640"/>
            <a:ext cx="430200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AEAFA-DC46-423E-B37C-DF8AFF576E44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5624640" y="6335640"/>
            <a:ext cx="430200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8EF73-56E5-4193-B82B-CB3DC8D74829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0" y="6335640"/>
            <a:ext cx="430200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0" y="0"/>
            <a:ext cx="430200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5624640" y="0"/>
            <a:ext cx="430200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3162240" y="500040"/>
            <a:ext cx="3614760" cy="25034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92160" y="3168720"/>
            <a:ext cx="7942320" cy="3009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63821-ECAC-4C9B-801E-17E47773A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10A4F-40E0-4588-A1E0-8F93E2A27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03CBF-2314-4FF9-AF9E-953A14DBC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A24A7-B3CD-43EF-8D07-E8E64E118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5E20C-7396-47E9-8653-B3966C12E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B51D0-699C-4B6C-A788-449D93A4D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CF71C-D83C-4F44-9649-50D597C45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76F5A-9643-4034-A4BC-0693744D8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413B5-B403-4DC6-8221-D874754B2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7BE28-697E-4DDB-9E9A-714CDDB16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858E8-E0FD-434F-836C-99D2D2602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24EE3-701D-48B7-9BAE-1487E52BA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30A45-19CF-4AC8-A922-C1BE9E7F0C10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00B89-1871-4D4E-A4A1-B7DF2D96EB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gif"/><Relationship Id="rId3" Type="http://schemas.openxmlformats.org/officeDocument/2006/relationships/image" Target="../media/image14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IMG_1172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68626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114800" y="5105160"/>
            <a:ext cx="513072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ffff00"/>
                </a:solidFill>
                <a:latin typeface="Comic Sans MS"/>
              </a:rPr>
              <a:t>Presentado po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ffff00"/>
                </a:solidFill>
                <a:latin typeface="Comic Sans MS"/>
              </a:rPr>
              <a:t>Luis Ortigas 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Comic Sans MS"/>
              </a:rPr>
              <a:t>Agosto 26</a:t>
            </a:r>
            <a:r>
              <a:rPr b="1" i="1" lang="es-ES_tradnl" sz="2800" spc="-1" strike="noStrike">
                <a:solidFill>
                  <a:srgbClr val="ffff00"/>
                </a:solidFill>
                <a:latin typeface="Comic Sans MS"/>
              </a:rPr>
              <a:t>, 200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066680" y="2286000"/>
            <a:ext cx="7848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0" spc="-1" strike="noStrike">
                <a:solidFill>
                  <a:srgbClr val="ffff00"/>
                </a:solidFill>
                <a:latin typeface="Comic Sans MS"/>
              </a:rPr>
              <a:t>El Proyecto Camise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34120" y="304920"/>
            <a:ext cx="391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Comic Sans MS"/>
              </a:rPr>
              <a:t>Presentación COM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BC61F-770C-447D-9EB5-CDA11A20A98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47680" y="457200"/>
            <a:ext cx="93693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ff"/>
                </a:solidFill>
                <a:latin typeface="Comic Sans MS"/>
              </a:rPr>
              <a:t>Precios de Etevensa y Usuarios Iniciales</a:t>
            </a:r>
            <a:br>
              <a:rPr sz="3600"/>
            </a:b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US$/MMBTU (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 la P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uesta en </a:t>
            </a: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O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peraci</a:t>
            </a:r>
            <a:r>
              <a:rPr b="0" lang="es-MX" sz="2400" spc="-1" strike="noStrike">
                <a:solidFill>
                  <a:srgbClr val="3333cc"/>
                </a:solidFill>
                <a:latin typeface="Comic Sans MS"/>
              </a:rPr>
              <a:t>ó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n </a:t>
            </a: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C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omercial</a:t>
            </a: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47680" y="2133720"/>
            <a:ext cx="93279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lvl="4" marL="1995480" indent="-22140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Usuar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995480" indent="-2214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Etevensa    Inici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Precios a Boca de Pozo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0.89</a:t>
            </a:r>
            <a:r>
              <a:rPr b="0" lang="es-MX" sz="32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        1.4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Transporte al City Gate 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0.81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1.1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Distribución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0.13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0.1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1.83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2.78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486400" y="4800600"/>
            <a:ext cx="152388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238880" y="4800600"/>
            <a:ext cx="144792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AD073-6E96-4E1B-904B-48151E6A498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"/>
          <p:cNvGraphicFramePr/>
          <p:nvPr/>
        </p:nvGraphicFramePr>
        <p:xfrm>
          <a:off x="0" y="1143000"/>
          <a:ext cx="9906120" cy="5486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143000"/>
                    <a:ext cx="9906120" cy="54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"/>
          <p:cNvSpPr/>
          <p:nvPr/>
        </p:nvSpPr>
        <p:spPr>
          <a:xfrm>
            <a:off x="577800" y="228600"/>
            <a:ext cx="87184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6600ff"/>
                </a:solidFill>
                <a:latin typeface="Comic Sans MS"/>
              </a:rPr>
              <a:t>Estructura de Precios Gas Natural</a:t>
            </a:r>
            <a:br>
              <a:rPr sz="4000"/>
            </a:br>
            <a:r>
              <a:rPr b="1" lang="es-MX" sz="2000" spc="-1" strike="noStrike">
                <a:solidFill>
                  <a:srgbClr val="6600ff"/>
                </a:solidFill>
                <a:latin typeface="Comic Sans MS"/>
              </a:rPr>
              <a:t>(US$/MMBTU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E471B-D1AF-4F41-A638-C0F8B9B62EB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3" name=""/>
          <p:cNvGraphicFramePr/>
          <p:nvPr/>
        </p:nvGraphicFramePr>
        <p:xfrm>
          <a:off x="0" y="1295280"/>
          <a:ext cx="9906120" cy="5334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95280"/>
                    <a:ext cx="9906120" cy="53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"/>
          <p:cNvSpPr/>
          <p:nvPr/>
        </p:nvSpPr>
        <p:spPr>
          <a:xfrm>
            <a:off x="838080" y="304920"/>
            <a:ext cx="8077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6600ff"/>
                </a:solidFill>
                <a:latin typeface="Comic Sans MS"/>
              </a:rPr>
              <a:t>Gas Natural vs. Comb. Líquidos </a:t>
            </a:r>
            <a:r>
              <a:rPr b="1" lang="es-MX" sz="2000" spc="-1" strike="noStrike">
                <a:solidFill>
                  <a:srgbClr val="6600ff"/>
                </a:solidFill>
                <a:latin typeface="Comic Sans MS"/>
              </a:rPr>
              <a:t>(US$/MMBTU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F5CA8-893C-42BB-8E34-A88C415BC5B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65240" y="1504800"/>
            <a:ext cx="9410400" cy="5073840"/>
          </a:xfrm>
          <a:prstGeom prst="rect">
            <a:avLst/>
          </a:prstGeom>
          <a:solidFill>
            <a:srgbClr val="cc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673360" y="1552680"/>
            <a:ext cx="225900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94280" y="1552680"/>
            <a:ext cx="252900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564320" y="1542960"/>
            <a:ext cx="23418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65240" y="1542960"/>
            <a:ext cx="253656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65240" y="228600"/>
            <a:ext cx="9566280" cy="11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ff"/>
                </a:solidFill>
                <a:latin typeface="Comic Sans MS"/>
              </a:rPr>
              <a:t>Beneficios del Proyecto Camise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98320" y="1714680"/>
            <a:ext cx="152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MAC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909880" y="1733400"/>
            <a:ext cx="177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FISC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994280" y="1695600"/>
            <a:ext cx="25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AMBIENT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564320" y="1695600"/>
            <a:ext cx="201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SOCI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701800" y="1504800"/>
            <a:ext cx="0" cy="5073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932360" y="1504800"/>
            <a:ext cx="0" cy="5073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532640" y="1504800"/>
            <a:ext cx="0" cy="5073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65240" y="2514600"/>
            <a:ext cx="2228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ucción del costo de energí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65240" y="3389400"/>
            <a:ext cx="2228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jora Balanza Comercial de Hidrocaru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65240" y="5697360"/>
            <a:ext cx="2508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mueve la Inversión Extranje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65240" y="4699080"/>
            <a:ext cx="2508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mueve Industria mas Competiti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65240" y="2305080"/>
            <a:ext cx="9410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701800" y="2517840"/>
            <a:ext cx="1981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gresos por Regalí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701800" y="3389400"/>
            <a:ext cx="1981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gresos por Impues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014800" y="2514600"/>
            <a:ext cx="2549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os emisiones (CO2/SO2/NOx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932360" y="3541680"/>
            <a:ext cx="24876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érmica men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amina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701800" y="4667400"/>
            <a:ext cx="1981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gresos por Arance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532640" y="2525760"/>
            <a:ext cx="2043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on para Reg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523280" y="4691160"/>
            <a:ext cx="2052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cnología y Transferencia de Know-how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523280" y="3389400"/>
            <a:ext cx="2208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ortunidades de emple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65240" y="1504800"/>
            <a:ext cx="9410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65240" y="6578640"/>
            <a:ext cx="9410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65240" y="1504800"/>
            <a:ext cx="0" cy="5073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9575640" y="1492200"/>
            <a:ext cx="0" cy="5073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65240" y="3352680"/>
            <a:ext cx="9410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65240" y="4643280"/>
            <a:ext cx="9410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65240" y="5697360"/>
            <a:ext cx="9410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A44BE-4D0F-46BC-8FBF-D31E7504DFC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600200" y="2743200"/>
            <a:ext cx="67816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mic Sans MS"/>
              </a:rPr>
              <a:t>Mercado de Gas Natural en Lima y Calla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AA316-00A2-4D5E-8BF7-7A115D36019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mic Sans MS"/>
              </a:rPr>
              <a:t>Mercado de Gas Natur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742680" y="2209680"/>
            <a:ext cx="718164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icial</a:t>
            </a:r>
            <a:r>
              <a:rPr b="1" lang="en-US" sz="2400" spc="-1" strike="noStrike" baseline="70000">
                <a:solidFill>
                  <a:srgbClr val="000000"/>
                </a:solidFill>
                <a:latin typeface="Arial"/>
              </a:rPr>
              <a:t>(a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evensa (TOP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70</a:t>
            </a:r>
            <a:r>
              <a:rPr b="1" lang="en-US" sz="2400" spc="-1" strike="noStrike" baseline="70000">
                <a:solidFill>
                  <a:srgbClr val="000000"/>
                </a:solidFill>
                <a:latin typeface="Arial"/>
              </a:rPr>
              <a:t>(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ustrias (6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1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icionales a la POC</a:t>
            </a:r>
            <a:r>
              <a:rPr b="1" lang="en-US" sz="2400" spc="-1" strike="noStrike" baseline="70000">
                <a:solidFill>
                  <a:srgbClr val="000000"/>
                </a:solidFill>
                <a:latin typeface="Arial"/>
              </a:rPr>
              <a:t>(b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20</a:t>
            </a:r>
            <a:r>
              <a:rPr b="1" lang="en-US" sz="2400" spc="-1" strike="noStrike" baseline="70000">
                <a:solidFill>
                  <a:srgbClr val="000000"/>
                </a:solidFill>
                <a:latin typeface="Arial"/>
              </a:rPr>
              <a:t>(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cado al 10</a:t>
            </a:r>
            <a:r>
              <a:rPr b="1" lang="en-US" sz="3200" spc="-1" strike="noStrike" baseline="4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2400" spc="-1" strike="noStrike" baseline="70000">
                <a:solidFill>
                  <a:srgbClr val="000000"/>
                </a:solidFill>
                <a:latin typeface="Arial"/>
              </a:rPr>
              <a:t>(d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5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82680" y="5029200"/>
            <a:ext cx="9294840" cy="15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13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ratos suscritos antes de otorgar la buena pro para la explotación en enero 2000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3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C = Puesta en Operación Comercial (agosto 2004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3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rcado adicional estimad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3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imado seg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Estudio de Mercado de Stone &amp; Webster 1998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3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rato transferido de Electroper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TOP de 80%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172200" y="17524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ff"/>
                </a:solidFill>
                <a:latin typeface="Comic Sans MS"/>
              </a:rPr>
              <a:t>MMPC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467480" y="2209680"/>
            <a:ext cx="304920" cy="1752840"/>
          </a:xfrm>
          <a:custGeom>
            <a:avLst/>
            <a:gdLst>
              <a:gd name="textAreaLeft" fmla="*/ 0 w 304920"/>
              <a:gd name="textAreaRight" fmla="*/ 110160 w 304920"/>
              <a:gd name="textAreaTop" fmla="*/ 45720 h 1752840"/>
              <a:gd name="textAreaBottom" fmla="*/ 1707120 h 1752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cap="sq"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620120" y="2514600"/>
            <a:ext cx="2057400" cy="99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Cerca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de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MMPC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B2842-E49B-4F5E-BF61-45A1E43A339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mic Sans MS"/>
              </a:rPr>
              <a:t>Mercado de Gas Natur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743040" y="1981080"/>
          <a:ext cx="842004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3040" y="1981080"/>
                    <a:ext cx="842004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" name=""/>
          <p:cNvSpPr/>
          <p:nvPr/>
        </p:nvSpPr>
        <p:spPr>
          <a:xfrm>
            <a:off x="914400" y="1812960"/>
            <a:ext cx="99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MPC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914400" y="6264360"/>
            <a:ext cx="769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ente: Estudio T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é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nico y de Demanda, Stone &amp; Webster, nov 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D8672-6E87-4BE0-9326-BD13A0AE67F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72800" y="380880"/>
            <a:ext cx="84200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3333cc"/>
                </a:solidFill>
                <a:latin typeface="Comic Sans MS"/>
              </a:rPr>
              <a:t>Demanda estimada de G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82440" y="1371600"/>
          <a:ext cx="9740880" cy="4724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440" y="1371600"/>
                    <a:ext cx="974088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4" name=""/>
          <p:cNvSpPr/>
          <p:nvPr/>
        </p:nvSpPr>
        <p:spPr>
          <a:xfrm>
            <a:off x="7010280" y="6324480"/>
            <a:ext cx="2895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Fuente: Apoy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3F413-ADE0-42A0-86AE-40655E5296E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0" y="0"/>
          <a:ext cx="990612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90612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7" name=""/>
          <p:cNvSpPr/>
          <p:nvPr/>
        </p:nvSpPr>
        <p:spPr>
          <a:xfrm>
            <a:off x="8229600" y="624852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Fuente M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A27D2-005D-4CB0-AB28-AB07218C421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42680" y="24379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6600ff"/>
                </a:solidFill>
                <a:latin typeface="Comic Sans MS"/>
              </a:rPr>
              <a:t>Economía Del Proyec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EED7F-7D82-4443-80B9-96E5879F431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42680" y="8377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ff"/>
                </a:solidFill>
                <a:latin typeface="Comic Sans MS"/>
              </a:rPr>
              <a:t>En Qué Consiste El Desarrollo Del Proyecto Camisea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43040" y="2397240"/>
            <a:ext cx="8705880" cy="9554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1. Explotaci</a:t>
            </a: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ó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n del Lote 88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43040" y="3657600"/>
            <a:ext cx="8705880" cy="1330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Transporte de Gas Natural y L</a:t>
            </a: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í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quidos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de Gas Natural de Camisea a la Costa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43040" y="5292720"/>
            <a:ext cx="8705880" cy="121932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Distribuci</a:t>
            </a: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ó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n de Gas Natural en Lima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y Callao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45526-9768-4F4E-A3F5-CC25CDC21BD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6600ff"/>
                </a:solidFill>
                <a:latin typeface="Comic Sans MS"/>
              </a:rPr>
              <a:t>Parámetr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90560"/>
            <a:ext cx="4572000" cy="47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Crecimiento de la demand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15% entre 2004 - 200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10% entre 2010 - 20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6% entre 2015 - 201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4% a partir de 20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Precios de crud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36 US$Bb 2004 – 200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33 2006 – 200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30 a partir de 200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Tasa de descuento: 1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Regalías: 37.24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029200" y="1676520"/>
            <a:ext cx="45720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Canon: 50% de Regalí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Planta L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2008 Inicio de oper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625 MMPCD de produ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20 años de ope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30% Regalías L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30% Regalías GN con PVR de US$ 0.53MMBT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Reserv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13 TCF de 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730 MMBB de L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B1C6A-5B13-4F9F-A125-9E1073563A2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0" y="0"/>
          <a:ext cx="990612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90612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233640" y="6324480"/>
            <a:ext cx="2402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Fuente: Elaboración Prop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F6731-E543-41EE-B50E-FF8CC5B7CB4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380880" y="0"/>
            <a:ext cx="929664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900" spc="-1" strike="noStrike">
                <a:solidFill>
                  <a:srgbClr val="6600ff"/>
                </a:solidFill>
                <a:latin typeface="Comic Sans MS"/>
              </a:rPr>
              <a:t>Ventas, Ingresos, Regalías y Canon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900" spc="-1" strike="noStrike">
                <a:solidFill>
                  <a:srgbClr val="6600ff"/>
                </a:solidFill>
                <a:latin typeface="Comic Sans MS"/>
              </a:rPr>
              <a:t>Mercado Local y Exportación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362320" y="6095880"/>
            <a:ext cx="6019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Mercado Local: 40 años         Proyecto Exportación LNG: 20 añ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Fuente: Elaboración Prop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0" y="1447920"/>
          <a:ext cx="9906120" cy="4647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447920"/>
                    <a:ext cx="9906120" cy="464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07E57-8F82-43CE-B90C-DE0B3281DD8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9" name=""/>
          <p:cNvGraphicFramePr/>
          <p:nvPr/>
        </p:nvGraphicFramePr>
        <p:xfrm>
          <a:off x="0" y="0"/>
          <a:ext cx="990612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90612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" name=""/>
          <p:cNvSpPr/>
          <p:nvPr/>
        </p:nvSpPr>
        <p:spPr>
          <a:xfrm>
            <a:off x="233640" y="6324480"/>
            <a:ext cx="2402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Fuente: Elaboración Prop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4F01A-1A90-41FC-B815-746C8BB249C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495360" y="684360"/>
            <a:ext cx="674856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3333ff"/>
                </a:solidFill>
                <a:latin typeface="Comic Sans MS"/>
              </a:rPr>
              <a:t>Algo bueno ha llegado…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495360" y="1974960"/>
            <a:ext cx="4044960" cy="371160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4540320" y="2362320"/>
            <a:ext cx="3632040" cy="442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808080"/>
                </a:solidFill>
                <a:latin typeface="Arial"/>
              </a:rPr>
              <a:t>Una oportunidad para mejorar la economía y la calidad de vida de los perua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7200" spc="-1" strike="noStrike">
                <a:solidFill>
                  <a:srgbClr val="2c8659"/>
                </a:solidFill>
                <a:latin typeface="Comic Sans MS"/>
              </a:rPr>
              <a:t>Camisea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7756560" y="0"/>
            <a:ext cx="2149560" cy="266688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>
            <a:off x="8197920" y="4924440"/>
            <a:ext cx="1708200" cy="1933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D1778-0CDC-4EE1-B58E-3D67FE3DB821}" type="slidenum">
              <a:t>24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0000ff"/>
                </a:solidFill>
                <a:latin typeface="Comic Sans MS"/>
              </a:rPr>
              <a:t>Uso Potencial del Gas Natur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33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Uso Industrial: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Vapor para proces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a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Uso Miner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etalurgi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finación de miner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nsumo para Hierro Espon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29200" y="1981080"/>
            <a:ext cx="4572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Uso Comer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Uso Residen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Uso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utomotriz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(GNC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Grandes Proyectos de Exportació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G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etroquím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Generación de Energía Eléctric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39A84-1BFE-4E2B-8A7B-5D40C30F0A0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60240" y="456840"/>
            <a:ext cx="8832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ff"/>
                </a:solidFill>
                <a:latin typeface="Comic Sans MS"/>
              </a:rPr>
              <a:t>Impactos</a:t>
            </a:r>
            <a:r>
              <a:rPr b="1" lang="en-US" sz="4000" spc="-1" strike="noStrike">
                <a:solidFill>
                  <a:srgbClr val="0000ff"/>
                </a:solidFill>
                <a:latin typeface="Comic Sans MS"/>
              </a:rPr>
              <a:t> del Proyecto Camisea (i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12560" y="190476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osibilita el desarrollo y utilización de un recurso natural de gran magnitu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jora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la Balanza Comercial deficitaria de Hidrocarbur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ropicia la reactivación de un frente de exploración en la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va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central y el desarrollo region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ermite diversificación de fuentes energéticas a menores cost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F94EE-F86A-47FF-9368-97B8E5A47AB6}" type="slidenum">
              <a:t>4</a:t>
            </a:fld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12560" y="533160"/>
            <a:ext cx="908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ff"/>
                </a:solidFill>
                <a:latin typeface="Comic Sans MS"/>
              </a:rPr>
              <a:t>Impactos</a:t>
            </a:r>
            <a:r>
              <a:rPr b="1" lang="en-US" sz="4000" spc="-1" strike="noStrike">
                <a:solidFill>
                  <a:srgbClr val="0000ff"/>
                </a:solidFill>
                <a:latin typeface="Comic Sans MS"/>
              </a:rPr>
              <a:t> del Proyecto Camisea </a:t>
            </a:r>
            <a:r>
              <a:rPr b="1" lang="es-ES_tradnl" sz="4000" spc="-1" strike="noStrike">
                <a:solidFill>
                  <a:srgbClr val="0000ff"/>
                </a:solidFill>
                <a:latin typeface="Comic Sans MS"/>
              </a:rPr>
              <a:t>(</a:t>
            </a:r>
            <a:r>
              <a:rPr b="1" lang="en-US" sz="4000" spc="-1" strike="noStrike">
                <a:solidFill>
                  <a:srgbClr val="0000ff"/>
                </a:solidFill>
                <a:latin typeface="Comic Sans MS"/>
              </a:rPr>
              <a:t>ii</a:t>
            </a:r>
            <a:r>
              <a:rPr b="1" lang="es-ES_tradnl" sz="4000" spc="-1" strike="noStrike">
                <a:solidFill>
                  <a:srgbClr val="0000ff"/>
                </a:solidFill>
                <a:latin typeface="Comic Sans MS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60240" y="1905120"/>
            <a:ext cx="8668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rea fuentes de ingresos para el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tado y la Reg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Genera puestos de trabaj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osibilita el desarrollo de nuevas industrias: LNG, Petroquímica, Ga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L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í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qui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, Hierro Esponja, entre otr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ntribuye a la mejora del medio ambiente al reemplazar combustibles contaminan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326B5-4C01-45AF-9900-58E3513638A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9048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ff"/>
                </a:solidFill>
                <a:latin typeface="Comic Sans MS"/>
              </a:rPr>
              <a:t>Balanza Comercial de Hidrocarburos</a:t>
            </a:r>
            <a:br>
              <a:rPr sz="3900"/>
            </a:br>
            <a:r>
              <a:rPr b="1" lang="es-ES_tradnl" sz="2400" spc="-1" strike="noStrike">
                <a:solidFill>
                  <a:srgbClr val="0000ff"/>
                </a:solidFill>
                <a:latin typeface="Comic Sans MS"/>
              </a:rPr>
              <a:t>1981–2002 (Millones US$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330120" y="1523880"/>
          <a:ext cx="8998200" cy="5032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0120" y="1523880"/>
                    <a:ext cx="8998200" cy="503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1D5CE-0D18-4873-A900-84D1934DAF3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12920" y="380880"/>
            <a:ext cx="88264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600" spc="-1" strike="noStrike">
                <a:solidFill>
                  <a:srgbClr val="0000ff"/>
                </a:solidFill>
                <a:latin typeface="Comic Sans MS"/>
              </a:rPr>
              <a:t>Impacto de Camisea sobre la Balanza Comercial de Hidrocarburos</a:t>
            </a:r>
            <a:r>
              <a:rPr b="1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2920" y="1828800"/>
            <a:ext cx="9162720" cy="4906800"/>
            <a:chOff x="412920" y="1828800"/>
            <a:chExt cx="9162720" cy="4906800"/>
          </a:xfrm>
        </p:grpSpPr>
        <p:pic>
          <p:nvPicPr>
            <p:cNvPr id="68" name="" descr=""/>
            <p:cNvPicPr/>
            <p:nvPr/>
          </p:nvPicPr>
          <p:blipFill>
            <a:blip r:embed="rId1"/>
            <a:stretch/>
          </p:blipFill>
          <p:spPr>
            <a:xfrm>
              <a:off x="412920" y="1828800"/>
              <a:ext cx="9162720" cy="490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/>
            <p:nvPr/>
          </p:nvSpPr>
          <p:spPr>
            <a:xfrm>
              <a:off x="1371600" y="1828800"/>
              <a:ext cx="7086600" cy="762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2133720" y="1828800"/>
            <a:ext cx="579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Comic Sans MS"/>
              </a:rPr>
              <a:t>Millones US$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C1C00-3502-40EE-B284-8149F9ABF26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42680" y="2666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ff"/>
                </a:solidFill>
                <a:latin typeface="Comic Sans MS"/>
              </a:rPr>
              <a:t>Precio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75B0E-DE32-4BCF-8D94-F408DF0DC58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536400" y="228600"/>
            <a:ext cx="91220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ff"/>
                </a:solidFill>
                <a:latin typeface="Comic Sans MS"/>
              </a:rPr>
              <a:t>Precios Máximos del Gas Natural</a:t>
            </a:r>
            <a:br>
              <a:rPr sz="3600"/>
            </a:b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US$/MMBTU (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 la P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uesta en </a:t>
            </a: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O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peraci</a:t>
            </a:r>
            <a:r>
              <a:rPr b="0" lang="es-MX" sz="2400" spc="-1" strike="noStrike">
                <a:solidFill>
                  <a:srgbClr val="3333cc"/>
                </a:solidFill>
                <a:latin typeface="Comic Sans MS"/>
              </a:rPr>
              <a:t>ó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n </a:t>
            </a: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C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omercial</a:t>
            </a: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47680" y="1523880"/>
            <a:ext cx="932796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lvl="4" marL="2036520" indent="-226080">
              <a:spcBef>
                <a:spcPts val="3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Sector</a:t>
            </a: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Ot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Eléctrico     Usuar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Precios a Boca de Pozo</a:t>
            </a:r>
            <a:r>
              <a:rPr b="0" lang="es-MX" sz="2400" spc="-1" strike="noStrike" baseline="30000">
                <a:solidFill>
                  <a:srgbClr val="000000"/>
                </a:solidFill>
                <a:latin typeface="Arial"/>
              </a:rPr>
              <a:t>(a)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1.00</a:t>
            </a:r>
            <a:r>
              <a:rPr b="0" lang="es-MX" sz="2400" spc="-1" strike="noStrike" baseline="30000">
                <a:solidFill>
                  <a:srgbClr val="000000"/>
                </a:solidFill>
                <a:latin typeface="Arial"/>
              </a:rPr>
              <a:t>(c)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         1.8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Transporte al City Gate</a:t>
            </a:r>
            <a:r>
              <a:rPr b="0" lang="es-MX" sz="2400" spc="-1" strike="noStrike" baseline="30000">
                <a:solidFill>
                  <a:srgbClr val="000000"/>
                </a:solidFill>
                <a:latin typeface="Arial"/>
              </a:rPr>
              <a:t>(b)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0.81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         1.1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Distribución</a:t>
            </a:r>
            <a:r>
              <a:rPr b="0" lang="es-MX" sz="2400" spc="-1" strike="noStrike" baseline="30000">
                <a:solidFill>
                  <a:srgbClr val="000000"/>
                </a:solidFill>
                <a:latin typeface="Arial"/>
              </a:rPr>
              <a:t>(b)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0.13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0.1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1.94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3.14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(a)   Precios máximos según Contrato de Licencia. Se ajustan anualmente según una canasta de fuel oil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(b)   Tarifas aplicables oficiales. Tienden a igualarse ambas tarifas hacia abaj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c)   Cuzco tendr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ste precio para otros usuari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638680" y="4191120"/>
            <a:ext cx="11430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467480" y="4191120"/>
            <a:ext cx="10670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B928F-4399-40BA-A58D-7CE4DAE1C02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28T14:35:48Z</dcterms:created>
  <dc:creator>Luis Ortigas C.</dc:creator>
  <dc:description>Presentación UQAM 14 mayo 2004</dc:description>
  <dc:language>en-US</dc:language>
  <cp:lastModifiedBy>Luis E. Ortigas</cp:lastModifiedBy>
  <cp:lastPrinted>2002-02-06T13:51:36Z</cp:lastPrinted>
  <dcterms:modified xsi:type="dcterms:W3CDTF">2004-08-24T18:49:53Z</dcterms:modified>
  <cp:revision>755</cp:revision>
  <dc:subject/>
  <dc:title>EL PROYECTO CAMISEA</dc:title>
</cp:coreProperties>
</file>